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9D7-E6BC-49BD-8DA5-2D362225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99D-3DBF-4B40-9924-2D086F59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90B-0F6D-43EB-959C-16D8E734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648-F65E-44A8-8FFF-6990F7DC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829C-C2FC-47C6-8307-145420FE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054E-ACE6-4653-9E5F-CFA4F7D0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F159-E680-4386-9813-1BFA8E64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BC63-6E86-452B-BCB6-CB12E0BB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84EB-31CB-4FCD-A59E-C57107E1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9DD0-3D5F-4C66-8BD2-F0D53464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E0A1-69C3-4FD5-8BB8-31DEE31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D1E-943E-4FD3-909E-8E79B14D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2B43-C732-444D-8D51-D72A9785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D455-91FF-4B70-A065-4A74B048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0C1F-36FE-4831-9129-4A2D5FAD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FBAA-6AD3-4769-B6D1-19C21C80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FAFD-B065-4F3F-B3B1-4D39FF8B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8A4-AC0F-4E43-9DA7-D686843C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B55-053C-4BF1-9A21-ADC09102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B81-7E49-4F05-AFCD-46EE9EDE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2AD-A904-46AD-BD10-B07DB9EE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C3E-F47D-466D-B76A-916C8AA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D51-6182-400E-AF11-41A0AB54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FDE-3927-4F81-ABB4-266A3BC3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2647-D53C-4B4B-AFAC-A05B10959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7646-651C-4EC4-8B2F-520031D1A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eiryo"/>
              </a:rPr>
              <a:t>HAROO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9th ar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:: music, football, cyb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: hist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so01038_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20720" cy="1630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4724280"/>
            <a:ext cx="6858000" cy="1015920"/>
          </a:xfrm>
          <a:prstGeom prst="rect">
            <a:avLst/>
          </a:prstGeom>
          <a:solidFill>
            <a:srgbClr val="ffcc66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akistan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451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3T11:25:27Z</dcterms:modified>
  <cp:revision>16</cp:revision>
  <dc:subject/>
  <dc:title>MR. HAROON </dc:title>
</cp:coreProperties>
</file>